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2384-A180-484C-A3A4-0A503096F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D66D-23AC-4709-B943-8E27A672C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F78E-5F9B-4831-B2CB-FC43633EE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F92D-3198-4F5D-934B-1CFF84EFA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64BD-47F7-4FE0-8C81-F47F38157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EAEC-2EE3-48F5-9160-D07E496F4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CE76-C182-4DAA-9591-446301CF0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F566-D68F-4FF8-890A-D61489ED4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51E4-E760-43FD-90B0-E684030CF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6BD-3E1E-4ADB-8A15-D381DF50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C9D-DB5F-4CB5-8FD0-149EDB9F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A6E-598D-4174-A3D5-D543BD82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6CB-7E65-49E9-9BB9-B7AAB2D3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3FAF-46D3-4225-BB12-6CB54C52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A934-900B-4529-B00F-8F64D7EC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AF2F-361C-49D8-A7DF-CBFE7EF1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8A87-6CAE-4F56-B347-03FB480D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E04B-F890-46BD-8C91-5AADCEF0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F9F0-48D6-4F24-8971-68E968C7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627D-4753-4800-B5BF-8BDD5C5D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350-0698-4978-979B-EE23B28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3E79-41FF-43A6-9CBC-A4C44D83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0EA5-79F8-49B6-BA4E-3C49FB51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E731-D4E1-47CA-9C54-9EC0CC91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3CF1-A1FB-44E2-A5AB-0BB90293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B0AD-A545-4379-9DFD-E91C8A9B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C3F-BC25-410B-8488-3960DE5F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4F2-12CF-4A4B-9F89-3C2578E6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0A4-48AE-4ACB-AB29-4A0B3ACC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667-7A6F-4AD8-8654-58368A3E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70C-F341-4963-B4B4-80D672E5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B52-6CDD-4ED5-94FB-D01506D6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151-E8DD-42A7-BE80-BF8D4AE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2796-AC90-404F-90EF-D306A29AF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2157-5FE9-4CBC-9E01-0660D6981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523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44720" y="388620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elix A. K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w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2590560"/>
            <a:ext cx="6019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is moving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can come from different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, S, E, W, NE, NW, SW, 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re hurricanes, tornados, gales, bree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do with w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333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 a k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l a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electr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wind for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33720" y="289512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if I had a windmill in my backyard…how could I use it for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ould make a wind-powered elevat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9000" y="2438280"/>
            <a:ext cx="20620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windmill"/>
          <p:cNvPicPr/>
          <p:nvPr/>
        </p:nvPicPr>
        <p:blipFill>
          <a:blip r:embed="rId1"/>
          <a:stretch/>
        </p:blipFill>
        <p:spPr>
          <a:xfrm>
            <a:off x="228600" y="291132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fan"/>
          <p:cNvPicPr/>
          <p:nvPr/>
        </p:nvPicPr>
        <p:blipFill>
          <a:blip r:embed="rId2"/>
          <a:stretch/>
        </p:blipFill>
        <p:spPr>
          <a:xfrm>
            <a:off x="2362320" y="2911320"/>
            <a:ext cx="2006640" cy="300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elevator_lego"/>
          <p:cNvPicPr/>
          <p:nvPr/>
        </p:nvPicPr>
        <p:blipFill>
          <a:blip r:embed="rId3"/>
          <a:stretch/>
        </p:blipFill>
        <p:spPr>
          <a:xfrm>
            <a:off x="6629400" y="2911320"/>
            <a:ext cx="20318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elevator_paper"/>
          <p:cNvPicPr/>
          <p:nvPr/>
        </p:nvPicPr>
        <p:blipFill>
          <a:blip r:embed="rId4"/>
          <a:stretch/>
        </p:blipFill>
        <p:spPr>
          <a:xfrm>
            <a:off x="4495680" y="2911320"/>
            <a:ext cx="203220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457200" y="60357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90920" y="60357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724280" y="603576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7010280" y="603576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o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720" y="1142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demonstra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90560" y="61718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SUNP0028.AVI" descr="Macintosh HD:Users:mucuna:Pictures:iPhoto Library:Originals:2034:Jan 25, 2034:SUNP0028.AVI"/>
          <p:cNvPicPr/>
          <p:nvPr/>
        </p:nvPicPr>
        <p:blipFill>
          <a:blip r:embed="rId1"/>
          <a:stretch/>
        </p:blipFill>
        <p:spPr>
          <a:xfrm>
            <a:off x="228600" y="22860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10" name="SUNP0030.AVI" descr="Macintosh HD:Users:mucuna:Pictures:iPhoto Library:Originals:2034:Jan 25, 2034:SUNP0030.AVI"/>
          <p:cNvPicPr/>
          <p:nvPr/>
        </p:nvPicPr>
        <p:blipFill>
          <a:blip r:embed="rId2"/>
          <a:stretch/>
        </p:blipFill>
        <p:spPr>
          <a:xfrm>
            <a:off x="4038480" y="22860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6858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play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1142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demonstra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95480" y="59432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SUNP0036.AVI" descr="Macintosh HD:Users:mucuna:Pictures:iPhoto Library:Originals:2034:Jan 25, 2034:SUNP0036.AVI"/>
          <p:cNvPicPr/>
          <p:nvPr/>
        </p:nvPicPr>
        <p:blipFill>
          <a:blip r:embed="rId1"/>
          <a:stretch/>
        </p:blipFill>
        <p:spPr>
          <a:xfrm>
            <a:off x="0" y="2133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SUNP0037.AVI" descr="Macintosh HD:Users:mucuna:Pictures:iPhoto Library:Originals:2034:Jan 25, 2034:SUNP0037.AVI"/>
          <p:cNvPicPr/>
          <p:nvPr/>
        </p:nvPicPr>
        <p:blipFill>
          <a:blip r:embed="rId2"/>
          <a:stretch/>
        </p:blipFill>
        <p:spPr>
          <a:xfrm>
            <a:off x="4343400" y="205740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858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play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Lego elevator not go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0" y="297144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 was too he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strong wind to power heavy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05:40Z</dcterms:created>
  <dc:creator>Anon ymous</dc:creator>
  <dc:description/>
  <dc:language>en-US</dc:language>
  <cp:lastModifiedBy>gross2</cp:lastModifiedBy>
  <dcterms:modified xsi:type="dcterms:W3CDTF">2012-03-13T20:31:06Z</dcterms:modified>
  <cp:revision>20</cp:revision>
  <dc:subject/>
  <dc:title>Wind </dc:title>
</cp:coreProperties>
</file>